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3DB5-E66B-4476-B646-150E9C58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BE6-03E9-4FE4-8637-0F93B5BE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6AF-C208-4207-82DE-8977D99C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E1CA-005F-415D-BB51-92D9A928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40D-9362-491D-9A24-11B84C29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52D8-1F38-4127-9A2B-F0CCA5F9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2CE-5320-47ED-BA3D-D7C79AE4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9DE-8647-4F45-86A4-2BBD3F3E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FEB0-17D4-4DB8-BA68-85462D02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3DE5-22BB-4A47-9055-10104CB6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24D-EE8C-4EF0-B4B4-0E3BDB06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40D2-2920-4590-B958-35629483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526F-84DE-4BC6-B1B1-87C528831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s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ământ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ada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22-30 no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Situație statistic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26920" y="1557360"/>
          <a:ext cx="7910640" cy="4114800"/>
        </p:xfrm>
        <a:graphic>
          <a:graphicData uri="http://schemas.openxmlformats.org/drawingml/2006/table">
            <a:tbl>
              <a:tblPr/>
              <a:tblGrid>
                <a:gridCol w="2747880"/>
                <a:gridCol w="2581560"/>
                <a:gridCol w="258120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âr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e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ț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 35 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-65 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te 65 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20:03:49Z</dcterms:created>
  <dc:creator>AS</dc:creator>
  <dc:description/>
  <dc:language>en-US</dc:language>
  <cp:lastModifiedBy>AS</cp:lastModifiedBy>
  <dcterms:modified xsi:type="dcterms:W3CDTF">2010-01-05T21:14:27Z</dcterms:modified>
  <cp:revision>6</cp:revision>
  <dc:subject/>
  <dc:title>Curs valutar</dc:title>
</cp:coreProperties>
</file>